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C5E6-CC9B-4522-8D93-FD5AACFE3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706A-7A81-41EF-A60C-0BBFC52EB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2D85-210D-478A-98D0-52FC4B072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4419-E09B-452E-91ED-47EE03ED4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5DCA-6018-4157-B963-3CF15BFF5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634E-B23D-4474-A780-E9A2E4488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ADFD-9FC4-407E-9941-896D68F55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42E0-30FA-4E31-82D8-309800CEF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F996-CF1E-4629-AE41-E2D284A5A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AAA5-957D-4805-9FFA-3B606AAEA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26C1-F5D0-4125-8AE5-E748B4625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F238-948F-498B-8EB2-2EE36A981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F126A-6201-46DD-8FAA-19CA9EE6F7B9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경상 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과 노인병원 두 곳을 돌아가면서 실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병원 각각 운동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작업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통증 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의 운동치료실과 통증치료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노인병원을 각각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씩 돌아가기 때문에 총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에서 어디에서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를 할지 모름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통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셔틀버스이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버스이용은 힘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복장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슬리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머리 단정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무시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점심시간은 경상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노인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식비는 공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소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상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습담당선생님이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옆에 서서 관찰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환자를 맡기지 않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transfer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도 안함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담하는 관리사가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기계사용 못하고 정리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대구대 졸업선배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선생님이 하루씩 돌아가며 실습생 맡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과 통증치료실이 한 공간에 있으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학생은 관찰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치매환자분과 상황극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연차 제일 높은 선생님이 대구대 졸업선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레포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상병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인데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OA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로 대신하기도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두 곳 다 특별한 강의는 없음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마지막 주에 정해준 논문 번역 발표함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보건대 출신쌤이 많아서 잘 챙겨주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 케이스가 많이 부족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계 편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를 직접 만질 기회가 없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다른 공부 하고 싶은 분 추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널널하게 실습하고 싶은 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과제 검사 까다롭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21:46Z</dcterms:created>
  <dc:creator>경상대 컴퓨터실 프린터</dc:creator>
  <dc:description/>
  <dc:language>en-US</dc:language>
  <cp:lastModifiedBy>Staff</cp:lastModifiedBy>
  <dcterms:modified xsi:type="dcterms:W3CDTF">2009-04-11T08:04:56Z</dcterms:modified>
  <cp:revision>3</cp:revision>
  <dc:subject/>
  <dc:title>경상병원</dc:title>
</cp:coreProperties>
</file>